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0E7-F399-4149-8012-ABEEF2A1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7EB-F610-4F02-A1DC-1E3D407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7FA-97F2-4668-8B43-9B0D2E32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E83-07BC-4E0F-87F6-F4EC261B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A23-6AB8-4313-B12C-C17B0AC6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8FC-EAEB-45AD-BDAD-47E5BACD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3D3-A4B7-4554-B8A6-8E44EA76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538-CFAB-4D53-88B1-9010460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ACA-9B6C-4563-9703-CFE2E44C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0AC-F04B-46BF-AF88-40D9360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6E4-00D2-481F-97D6-48222D1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43F-FF72-42C1-9B17-24C440D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8AE5-DEF5-450C-A7DD-14A24F31C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bax.co.jp/listen/turns.html" TargetMode="External"/><Relationship Id="rId3" Type="http://schemas.openxmlformats.org/officeDocument/2006/relationships/hyperlink" Target="http://www.teachingenglish.org.uk/think/knowledge-wiki/turn-taking" TargetMode="External"/><Relationship Id="rId4" Type="http://schemas.openxmlformats.org/officeDocument/2006/relationships/hyperlink" Target="http://www.developingteachers.com/articles_tchtraining/turntakelp2_greg.htm" TargetMode="External"/><Relationship Id="rId5" Type="http://schemas.openxmlformats.org/officeDocument/2006/relationships/hyperlink" Target="http://insights-into-tefl.blogspot.com/2007/02/on-conversation-turn-taking-and-culture.html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nes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simila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ing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rder for communication to be successful we have to structure our discourse in such a way that it will be understood by our listeners and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r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rent: sequenc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sive: Linguistic ways of connecting ideas across phrases and sentences: pronouns, lexical repetition, synonymy; transitional expressions indicating addition, contrast, cause and effect, time space, importa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lves following conversational patterns and usage of lexical phrases: the pre-fixed or semi-fixed word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ntaneous speech appears chaotic and disorganised, however speakers employ structuring devices to “buy time”, to turn-taking language and organising markers such as firstly, secondl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th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with similar cultural and linguistic backgrounds in both speaking and writing when they communicate with each other: shared schemata helps communicate successfu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ciocultural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formal to be, what kind of language to use, how loud to speak, how close to stand to each other; how men and men speak to each other; different social or professional status; sociocultural rules and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-t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 verbally or visually that one wants a turn or, conversely, by recognising when other speakers are signalling that they want to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ax.co.jp/listen/turn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english.unitecnology.ac.nz/resources/resources/exp_lang/turntak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3.telus.net/linguisticsissues/fluencyjapanes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sl-lesson-plan.com/archives/2007/02/tips_and_tricks_turntaking.ph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eachingenglish.org.uk/think/knowledge-wiki/turn-tak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els.bham.ac.uk/resources/essays/yvette4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developingteachers.com/articles_tchtraining/turntakelp2_greg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nsights-into-tefl.blogspot.com/2007/02/on-conversation-turn-taking-and-culture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les for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styles, different written and spoken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: purpose of communication, form to achieve the purpose, setting, channel (microph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Lecture, informal conversation, magazine article, 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level of formality, intimacy, grammar, ‘distance’ &amp; ‘closenes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S NEED PRACTICE IN BOTH speaking and writing: different genres, styles, variation of grammar, functions, lexis they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Interaction with an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ow to deal with difficul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eign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ve skill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 students a chance to rehearse language production in safety, experimenting with different language in different genres that they will use on some future occasion away from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v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lls and sentences to practise a grammar point are non-communicative activities and do not belong to productiv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ill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ing people to take turns, use correct punctuation: fairly controlled, however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 of produc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or students and their teachers how well things are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e skill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and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aching of productive skills is closely bound up with receptive skill work. The two feed off each other in a number of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and input -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our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the people we are communicating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teac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a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as sti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as part of produc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lend listening with speaking Comprehension; writing often depends upon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TENTION: don’t have students practise skills in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 enables recep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insights from writing to reading; speak certain genres helps understanding conversations in similar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students find something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the task with student langu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ure there is a task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problems caused by language students need, and the difficulties which the topic or the genre might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ly key langu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ir knowledge of key vocabulary, help with phrases or questions that will be helpful for the task; more exposure and practice, particularly in spe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 activities in adva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an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 and 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interesting topic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find types of tasks which will involve class members; favourite topics; (through interviews and questionnaires or obser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interest in the topic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k about it and communicate enthusi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e schemata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 interviews before role-playing; examples of typical letters written to newspapers before giving such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y topics and genr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necessary informa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bits of information are absolutely essential for the task to be a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00:05Z</dcterms:created>
  <dc:creator>Marios Tziakouris</dc:creator>
  <dc:description/>
  <dc:language>en-US</dc:language>
  <cp:lastModifiedBy>CUT LC Language Instructors</cp:lastModifiedBy>
  <dcterms:modified xsi:type="dcterms:W3CDTF">2009-10-29T09:17:51Z</dcterms:modified>
  <cp:revision>26</cp:revision>
  <dc:subject/>
  <dc:title>Slide 1</dc:title>
</cp:coreProperties>
</file>